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F0FE-5C06-4920-8244-5CC2CB766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DB12-12F6-4298-8562-AD866685AD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F5C0-7257-4D7C-AC10-1A2A8CEB66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E422-777E-4564-A1F9-C2CADED555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33CA-C440-44EC-8C4D-DA11CFC9B8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A164-1243-4086-A0D5-2C9A229987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3361-B66C-494F-9508-DFA981AC40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C1F1-22CD-4E6D-97B6-2255F85603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9E99-E34F-4398-9363-54AB78B597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A3C3-5BB7-4A0D-9C21-0385E4ABA3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0E3D-8E25-477D-8F34-988D139944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A18C-66C9-464D-904F-26C11603D7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9FF2-FD4A-4A57-8E22-FE6FFACF46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4E05-B99C-4605-84BD-35DA2F3784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EB22-7652-41A4-AD3A-D29877CD12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13E4-DCB3-4DE3-947E-E62C3DD427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5137-149C-43C4-ADE5-EA96951BDF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C2EC-2850-406F-995B-8B50835EC4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FFF3-02E2-4986-8804-D0BBA1DC50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54C1-45C8-4400-B037-FD3D6D7C50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C478-3AE2-42C1-B394-7DA3DD2C41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F730-8609-4B62-ADAF-7AFAE3D0D6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0B4-07CE-49EB-A934-9BEB9038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EF9-0177-4EF3-9E5B-E752464E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D2C-52F2-4BA0-B97A-0409B2BF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0047-813B-4E9E-BFFD-2BCEB126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A40A-D054-41CF-8133-B3D219BA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29A0-9447-4E01-BA67-7856AEA7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0993-C0DF-455F-9E3A-E736141C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F291-34E7-4B71-AB36-434BB9AD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4FC8-F0B0-47E1-9337-D1C884A6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7DC3-D203-41EC-A13A-B6C859CF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2D40-D914-48B9-8673-34A6C824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9A7B-24ED-4F3D-B92A-340C47A7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7A62-7F9F-419B-888E-6C57E1FB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D5D6-4FCF-4A45-BE9E-777E645A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8F4C-1F07-4CBE-ACAE-B326E14E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8214-1BEB-4A3F-857C-5E760F8F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F95E-CAE1-453F-BB6A-56F36DC3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F5E03-D2F8-4540-91CF-68005C93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8FCD5-E0D4-4CFF-89EC-EBCF376F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249A9-7145-4486-ADE4-7AF11DE6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118C1-A0F3-4220-B3BE-75F18372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76A16-F8D2-4895-8E87-0CDF0C29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90D1-7006-4886-A7D6-7E133E36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E75F4-C17E-4B82-930E-B9B7E8DD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DE34B-D55E-490A-9B92-B712DFF8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A9C2B-449F-4937-B258-45338D73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6F42D-2D12-4459-ADD8-236776A7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7B7A0-0CC9-4777-B52C-63E8CD43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57C23-6C01-4208-9C78-66439E2A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232FD-DCC7-4E6C-8CBB-B12CC63B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0BEA3-171B-4E1D-BABC-D816E5B9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5988C-2C90-4BE7-BF93-CE30A6F5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06AD3-AE36-4586-B595-AEE8373D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94D-D52D-4FC0-B1CF-1329BD24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D6A5F-38C3-4DF0-9CAD-EF80FE69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1081C-1EA2-4C4A-AE84-E63B4807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A8391-1FCE-477B-B4DC-03652268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19314-72D0-41F4-8D84-CDAFF441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F76F3-37BB-469C-B31B-E56474F2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E124A-4820-4208-A4F8-F4DA6E57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77336-D068-4F2D-A2EC-B6DCB5E7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2D913-3D33-40CF-9092-4D86F53E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3ACB0-8AF1-4E6B-84DB-B82D14A8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7C38-8CB5-4206-882E-E852B1A9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763-A1FF-46F9-B872-53B6A942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722-B753-406A-A4FE-3E5A87EE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911-FFDC-4226-909C-88FF6058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50A-12C7-4170-99C1-D8FFE199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A15F-EEC2-43F9-A400-A975E8E87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A484-A848-4BB2-8E91-7A4014866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D1FB-59EE-4EA5-BA55-6F6BEC61C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58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a58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AC65-6E94-4451-9FA4-083C0028D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EW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o in this equation you have </a:t>
            </a:r>
            <a:r>
              <a:rPr b="0" lang="en-US" sz="4000" spc="-1" strike="noStrike">
                <a:solidFill>
                  <a:srgbClr val="00ff00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x 1 sodium atoms being added to 2 chlorine atoms yielding </a:t>
            </a:r>
            <a:r>
              <a:rPr b="0" lang="en-US" sz="4000" spc="-1" strike="noStrike">
                <a:solidFill>
                  <a:srgbClr val="00ff00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x 1 sodium chloride molecu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0" y="3429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When we balance chemical equations, we need to figure out what coefficients to us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o do that, we list how many atoms of each element we start with, then use math to figure out the coefficien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n this equation, we start with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0" y="2819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ur hydrogen is balanced, but we don’t have enough oxygen in the produc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2286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e need to make our best mathematical guess as to which coefficient will bring balance to the equ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___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86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e need two oxygen atoms, so lets try a coefficient of 2 in front of the produc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19"/>
          <p:cNvSpPr/>
          <p:nvPr/>
        </p:nvSpPr>
        <p:spPr>
          <a:xfrm>
            <a:off x="5334120" y="1523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___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0" y="2286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Multiply that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by the subscripts for each atom in the produc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9"/>
          <p:cNvSpPr/>
          <p:nvPr/>
        </p:nvSpPr>
        <p:spPr>
          <a:xfrm>
            <a:off x="5334120" y="1523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4952880" y="5791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4952880" y="502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___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0" y="2286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Now we have enough oxygen, but too much hydrogen.  How do we balance i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Text Box 19"/>
          <p:cNvSpPr/>
          <p:nvPr/>
        </p:nvSpPr>
        <p:spPr>
          <a:xfrm>
            <a:off x="5334120" y="1523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952880" y="5791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4952880" y="502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___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0" y="2286000"/>
            <a:ext cx="91440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f we put a coefficient of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n front of the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 on the reactants side, we can balance the equ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-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 Box 19"/>
          <p:cNvSpPr/>
          <p:nvPr/>
        </p:nvSpPr>
        <p:spPr>
          <a:xfrm>
            <a:off x="5334120" y="1523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4952880" y="5791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4952880" y="502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3048120" y="502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2362320" y="1523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When pieces of matter come together or break apart, it is called a </a:t>
            </a:r>
            <a:r>
              <a:rPr b="0" i="1" lang="en-US" sz="3000" spc="-1" strike="noStrike">
                <a:solidFill>
                  <a:srgbClr val="ffffff"/>
                </a:solidFill>
                <a:latin typeface="Trebuchet MS"/>
              </a:rPr>
              <a:t>reaction</a:t>
            </a: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e law of conservation of matter states that matter can not be created or destroy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In any reaction, you must have the same amount of each part before and after the reaction happe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We show how reactions become </a:t>
            </a:r>
            <a:r>
              <a:rPr b="0" i="1" lang="en-US" sz="3000" spc="-1" strike="noStrike">
                <a:solidFill>
                  <a:srgbClr val="ffffff"/>
                </a:solidFill>
                <a:latin typeface="Trebuchet MS"/>
              </a:rPr>
              <a:t>balanced</a:t>
            </a: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 by using </a:t>
            </a:r>
            <a:r>
              <a:rPr b="0" i="1" lang="en-US" sz="3000" spc="-1" strike="noStrike">
                <a:solidFill>
                  <a:srgbClr val="ffffff"/>
                </a:solidFill>
                <a:latin typeface="Trebuchet MS"/>
              </a:rPr>
              <a:t>chemical equa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ultiply the number of atoms you have by coefficients to balance equa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ultiply coefficients by every subscript until you hit a + or a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Never, ever, 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EVER</a:t>
            </a: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 change a subscrip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ake a list of how much of each atom you have and change it as you add coefficients to your equ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00"/>
                </a:solidFill>
                <a:latin typeface="Trebuchet MS"/>
              </a:rPr>
              <a:t>If there are poly-atomic ions on both sides of your equation, don’t separate them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rebuchet MS"/>
              </a:rPr>
              <a:t>Quick Chec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___Al(OH)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+ 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___A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+ ___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981080" y="3429000"/>
            <a:ext cx="5410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is is a balanced chemical equ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34290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rrow is called the </a:t>
            </a: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yields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 sign.  It separates what you start with on the left from what you end up with on the righ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0" y="34290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o the left of the yields sign are the parts that react.  They are called the </a:t>
            </a: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reactants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34290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o the right of the yields sign is what you end up with after the reaction.  These are called the </a:t>
            </a: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products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0" y="34290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little number next to and below an element is called a </a:t>
            </a: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subscript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.  We have been using them all along.  </a:t>
            </a:r>
            <a:r>
              <a:rPr b="0" lang="en-US" sz="4400" spc="-1" strike="noStrike">
                <a:solidFill>
                  <a:srgbClr val="ff0000"/>
                </a:solidFill>
                <a:latin typeface="Trebuchet MS"/>
              </a:rPr>
              <a:t>We never change subscripts in a chemical equ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0" y="34290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big numbers next to the elements or compounds are called </a:t>
            </a: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coefficients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.  These are the only things we can change in a chemical equ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0" y="3429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oefficients tell us the amount of each compound or element we have.  You multiply the subscript for each element to the right of a coefficient until you are stopped by a + or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4:42:51Z</dcterms:created>
  <dc:creator>Andrea Pascasio</dc:creator>
  <dc:description/>
  <dc:language>en-US</dc:language>
  <cp:lastModifiedBy>Andrea Pascasio</cp:lastModifiedBy>
  <dcterms:modified xsi:type="dcterms:W3CDTF">2008-12-02T05:00:46Z</dcterms:modified>
  <cp:revision>3</cp:revision>
  <dc:subject/>
  <dc:title>BALANCING CHEMICAL EQU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